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B27F92-5CF8-475E-A24F-650144C0A13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916959-4098-47E7-8FA2-6BA75A1A4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D09FA1-4388-42B0-817C-BA1B2C622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387FF7-1F86-401B-8FEB-4D9AD4688CF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C28201-BC59-4C4F-8411-5322AC76D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65F4F4-CE68-4D4B-A589-227453B6B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084196-4AFF-4D0B-B3AC-4AD69D89F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98730B-D460-437D-88CD-79BF37398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C15E42-E970-4B5B-AE7D-C82A3E420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EC7A04-D258-493C-92A4-A247F0F1C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12BEE4-03D0-476E-B8EF-FC503B1CC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E2EA88-B420-48D1-8751-22C3F23DE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F5337-91A8-4ADF-9D2C-EBAF6E3E25F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9280"/>
              <a:ext cx="9115560" cy="1818360"/>
              <a:chOff x="28440" y="5039280"/>
              <a:chExt cx="9115560" cy="181836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9280"/>
                <a:ext cx="9115560" cy="1818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928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250560" y="2276640"/>
            <a:ext cx="5545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第十一章 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产后并发症妇女的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一节  产褥感染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主要护理诊断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合作性问题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体温过高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急性疼痛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一节  产褥感染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措施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一）一般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保证休息和睡眠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保证营养摄入；及时补液防脱水；监测并纠正水电解质失衡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半卧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提供心理支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一节  产褥感染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二）缓解症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做好病情观察和记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会阴部护理，保持外阴清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︰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500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高锰酸钾溶液冲洗外阴，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日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分娩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天后可温水坐浴，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日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正确执行医嘱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患者出现高热、疼痛、呕吐时按症状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一节  产褥感染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三）健康教育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协助产妇了解产褥感染知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产后休息、饮食、活动、服药知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识别自身及新生儿异常状况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随访、检查相关知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971640" y="285264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第二节  产后心理障碍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后心理障碍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产后心理障碍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产后沮丧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产后抑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后心理障碍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36" name="图表 1" descr=""/>
          <p:cNvPicPr/>
          <p:nvPr/>
        </p:nvPicPr>
        <p:blipFill>
          <a:blip r:embed="rId1"/>
          <a:stretch/>
        </p:blipFill>
        <p:spPr>
          <a:xfrm>
            <a:off x="291960" y="1316160"/>
            <a:ext cx="8650440" cy="497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后心理障碍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9360">
            <a:solidFill>
              <a:srgbClr val="8ac8de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临床表现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产后沮丧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情绪不稳定，易哭，感觉焦虑、疲劳、失眠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产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日出现，产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天为高峰期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产后抑郁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多在两周内出现，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周明显，持续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个月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至今无统一诊断标准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后心理障碍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9360">
            <a:solidFill>
              <a:srgbClr val="8ac8de"/>
            </a:solidFill>
            <a:miter/>
          </a:ln>
        </p:spPr>
        <p:txBody>
          <a:bodyPr lIns="94680" rIns="94680" tIns="51480" bIns="514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141" name="图片 1" descr="6BC93707-4BF0-4C7A-BD80-D389D33FDB56.png"/>
          <p:cNvPicPr/>
          <p:nvPr/>
        </p:nvPicPr>
        <p:blipFill>
          <a:blip r:embed="rId1"/>
          <a:stretch/>
        </p:blipFill>
        <p:spPr>
          <a:xfrm>
            <a:off x="228600" y="1197000"/>
            <a:ext cx="8915400" cy="52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后心理障碍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9360">
            <a:solidFill>
              <a:srgbClr val="8ac8de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二）辅助检查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爱丁堡产后抑郁量表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dinburgh postnatal depression scale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PDS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产后抑郁筛查量表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postpartum depression screening scale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PDSS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684360" y="285264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第一节  产褥感染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后心理障碍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9360">
            <a:solidFill>
              <a:srgbClr val="8ac8de"/>
            </a:solidFill>
            <a:miter/>
          </a:ln>
        </p:spPr>
        <p:txBody>
          <a:bodyPr lIns="94680" rIns="94680" tIns="51480" bIns="514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146" name="图片 1" descr="461AF471-A08C-412F-A5F6-63134BB0C655.png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54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后心理障碍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9360">
            <a:solidFill>
              <a:srgbClr val="8ac8de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三）与疾病相关健康史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四）心理社会变化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五）治疗原则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病情，识别诱因，缓解压力，对症处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避免刺激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给予指导和护理，重者药物治疗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定期家访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后心理障碍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9360">
            <a:solidFill>
              <a:srgbClr val="8ac8de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主要护理诊断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合作性问题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应对无效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有暴力行为的危险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后心理障碍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9360">
            <a:solidFill>
              <a:srgbClr val="8ac8de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措施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一）一般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倾听问题，给予心理疏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帮助产妇适应母亲角色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二）缓解症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对不良个性产妇给予心理指导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后心理障碍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9360">
            <a:solidFill>
              <a:srgbClr val="8ac8de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警惕伤害性行为，注意保护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重症患者在医师指导下给予药物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三）健康指导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给予产妇重视和帮助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做好出院指导和随访工作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WordArt 4"/>
          <p:cNvSpPr txBox="1"/>
          <p:nvPr/>
        </p:nvSpPr>
        <p:spPr>
          <a:xfrm>
            <a:off x="3419640" y="3141720"/>
            <a:ext cx="2900160" cy="106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黑体"/>
              </a:rPr>
              <a:t>谢谢！</a:t>
            </a:r>
            <a:endParaRPr b="0" lang="en-US" sz="5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一节  产褥感染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产褥感染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产褥期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内生殖道受病原体侵袭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局部和全身的炎性变化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产褥病率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分娩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4h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以后至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日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每日间隔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h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用口表测量体温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次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≥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8℃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一节  产褥感染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1" name="图表 1" descr=""/>
          <p:cNvPicPr/>
          <p:nvPr/>
        </p:nvPicPr>
        <p:blipFill>
          <a:blip r:embed="rId1"/>
          <a:stretch/>
        </p:blipFill>
        <p:spPr>
          <a:xfrm>
            <a:off x="317520" y="1292400"/>
            <a:ext cx="8624880" cy="49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一节  产褥感染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评估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一）临床表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发热、疼痛、异常恶露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为产褥感染三大主要症状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一节  产褥感染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2400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感染部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250920" y="1773360"/>
          <a:ext cx="8569080" cy="4659120"/>
        </p:xfrm>
        <a:graphic>
          <a:graphicData uri="http://schemas.openxmlformats.org/drawingml/2006/table">
            <a:tbl>
              <a:tblPr/>
              <a:tblGrid>
                <a:gridCol w="2232000"/>
                <a:gridCol w="6337080"/>
              </a:tblGrid>
              <a:tr h="701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d0d0d"/>
                          </a:solidFill>
                          <a:latin typeface="Verdana"/>
                        </a:rPr>
                        <a:t>外阴伤口感染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d0d0d"/>
                          </a:solidFill>
                          <a:latin typeface="Verdana"/>
                        </a:rPr>
                        <a:t>会阴裂伤或会阴切开部感染，葡萄球菌和大肠埃希菌感染为主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617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d0d0d"/>
                          </a:solidFill>
                          <a:latin typeface="Verdana"/>
                        </a:rPr>
                        <a:t>急性阴道、宫颈炎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d0d0d"/>
                          </a:solidFill>
                          <a:latin typeface="Verdana"/>
                        </a:rPr>
                        <a:t>黏膜充血、水肿、溃疡、分泌物增多，呈脓性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701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d0d0d"/>
                          </a:solidFill>
                          <a:latin typeface="Verdana"/>
                        </a:rPr>
                        <a:t>急性子宫内膜炎、子宫肌炎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d0d0d"/>
                          </a:solidFill>
                          <a:latin typeface="Verdana"/>
                        </a:rPr>
                        <a:t>恶露量多，浑浊有臭味；宫底部压痛；全身症状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701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d0d0d"/>
                          </a:solidFill>
                          <a:latin typeface="Verdana"/>
                        </a:rPr>
                        <a:t>急性盆腔结缔组织炎、急性输卵管炎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d0d0d"/>
                          </a:solidFill>
                          <a:latin typeface="Verdana"/>
                        </a:rPr>
                        <a:t>局部感染扩散累及盆腔结缔组织和输卵管；“冰冻骨盆”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701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d0d0d"/>
                          </a:solidFill>
                          <a:latin typeface="Verdana"/>
                        </a:rPr>
                        <a:t>急性盆腔腹膜炎及弥漫性腹膜炎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d0d0d"/>
                          </a:solidFill>
                          <a:latin typeface="Verdana"/>
                        </a:rPr>
                        <a:t>严重全身中毒症状：高热、恶心、呕吐、腹胀；下腹压痛、反跳痛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617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d0d0d"/>
                          </a:solidFill>
                          <a:latin typeface="Verdana"/>
                        </a:rPr>
                        <a:t>血栓性静脉炎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d0d0d"/>
                          </a:solidFill>
                          <a:latin typeface="Verdana"/>
                        </a:rPr>
                        <a:t>局部静脉压痛、硬索状；“股白肿”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617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d0d0d"/>
                          </a:solidFill>
                          <a:latin typeface="Verdana"/>
                        </a:rPr>
                        <a:t>脓毒血症及败血症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d0d0d"/>
                          </a:solidFill>
                          <a:latin typeface="Verdana"/>
                        </a:rPr>
                        <a:t>休克症状，可危及生命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一节  产褥感染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二）辅助检查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腹部检查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妇科检查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实验室检查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其他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一节  产褥感染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三）与疾病相关健康史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产褥感染诱发因素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四）心理社会状况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五）治疗原则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积极控制感染并纠正全身状况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支持疗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清除感染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一节  产褥感染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抗生素应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辅助药物运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积极进行抢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dell</cp:lastModifiedBy>
  <cp:lastPrinted>1899-12-30T00:00:00Z</cp:lastPrinted>
  <dcterms:modified xsi:type="dcterms:W3CDTF">2015-11-11T08:45:24Z</dcterms:modified>
  <cp:revision>54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